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AB6-F71C-46D9-8D58-36736E4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FED-BE2E-4476-9AF5-39F217D4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C12-6938-4554-AFA1-1649F77C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81D-8E24-4960-B596-DF3185B2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78F82-6FC7-4947-8E7C-E78E5BAB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67F91-773E-4007-9B67-50CF709F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C72BB-A1B8-48DC-AC89-F0CEF3DA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AF1C9-7BD2-493A-B11F-BF0C9AE8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AE4C4-F26A-46B9-8B25-2D3B3BF1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9AAE4-41B4-471C-8DCE-8438FB4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55343-CFE3-4A4B-972E-F7D5899A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158-DA6B-4D74-A3D3-240BBB7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676C0-4DA9-47A6-A13B-7E3484CF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2A4E1-27D4-4F64-BCE8-5A88A5E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65E27-37AD-4694-A5A8-6F004E78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F19E8-9F55-4417-862D-A3B4F07D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FBDD2-83F4-4C94-B89B-984E114A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A99-B892-4848-B489-A68F9335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9F7-7C10-44D9-918A-07637260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CE2-3AC4-4B52-8400-CD8FA659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F2D-0740-4B1B-A9F3-0EBFC181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589-4548-4EBC-99DE-9BFEA41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AE0-832B-4A9D-83BD-B0685CC0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A89-AD0D-428E-BF6F-97C16FD3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99CB-1D6E-4090-BDE5-0DEAC1911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52C5-CBA5-4ECB-955E-CD81700389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orema lui Thale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ZUL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1844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upa 1 – albastr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a a VII-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Şcoala cu clasele I-VIII Sî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adi Patri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z An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gy Lasz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asi Atti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 flipV="1">
            <a:off x="5580000" y="2421000"/>
            <a:ext cx="30974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5724360" y="404640"/>
            <a:ext cx="100836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6"/>
          <p:cNvSpPr/>
          <p:nvPr/>
        </p:nvSpPr>
        <p:spPr>
          <a:xfrm flipH="1" flipV="1">
            <a:off x="6732720" y="404280"/>
            <a:ext cx="1944720" cy="20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7"/>
          <p:cNvSpPr/>
          <p:nvPr/>
        </p:nvSpPr>
        <p:spPr>
          <a:xfrm>
            <a:off x="5940360" y="191628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73452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150880" y="23493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8673840" y="220500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36580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8246160" y="155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145440" y="106200"/>
            <a:ext cx="613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Într-un triunghi oarecare  ABC se ia punctul 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  <a:ea typeface="Tahoma"/>
              </a:rPr>
              <a:t>înafara triunghiului AB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254520" y="1557360"/>
            <a:ext cx="46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nfor Theoremei lui Thal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714240" y="21351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33"/>
          <p:cNvSpPr/>
          <p:nvPr/>
        </p:nvSpPr>
        <p:spPr>
          <a:xfrm>
            <a:off x="755640" y="2708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71760" y="2637000"/>
            <a:ext cx="8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1589400" y="234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2325240" y="213372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2340000" y="2708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261880" y="26370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3501360" y="2349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1606320" y="38606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41"/>
          <p:cNvSpPr/>
          <p:nvPr/>
        </p:nvSpPr>
        <p:spPr>
          <a:xfrm>
            <a:off x="1619280" y="4581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42"/>
          <p:cNvSpPr/>
          <p:nvPr/>
        </p:nvSpPr>
        <p:spPr>
          <a:xfrm>
            <a:off x="1596600" y="465300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3"/>
          <p:cNvSpPr/>
          <p:nvPr/>
        </p:nvSpPr>
        <p:spPr>
          <a:xfrm>
            <a:off x="2669040" y="422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3270600" y="3860640"/>
            <a:ext cx="9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45"/>
          <p:cNvSpPr/>
          <p:nvPr/>
        </p:nvSpPr>
        <p:spPr>
          <a:xfrm>
            <a:off x="327672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3260880" y="47973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9:57:08Z</dcterms:created>
  <dc:creator>xxx</dc:creator>
  <dc:description/>
  <dc:language>en-US</dc:language>
  <cp:lastModifiedBy>server</cp:lastModifiedBy>
  <dcterms:modified xsi:type="dcterms:W3CDTF">2011-02-25T09:32:13Z</dcterms:modified>
  <cp:revision>5</cp:revision>
  <dc:subject/>
  <dc:title>Slide 1</dc:title>
</cp:coreProperties>
</file>